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807-0EAC-4FE2-BA8A-C918CBD7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FCF-7270-44E2-B981-EAF7BAFA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11F-F0A0-4F92-911E-821205B4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3B4-EAA7-4016-B57A-82CF5FCE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66E4-F49D-4B8B-B37F-F70CD911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CB28-C6C2-4889-B30C-D32A1128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12B1-C660-48F5-8120-FDE21FAF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FB3A-3F33-4405-8294-D406CC12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0205-0F46-47A8-8C49-FC839B29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4798-7F37-4A75-98C0-FC86C25D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A8F9-C0D5-4DD7-B536-F936567F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203-3ADF-4633-A484-056016C3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8D4A-79C0-4625-9554-8DF4682A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E95A-536A-402A-BB36-AACF4BD6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1DD1-8617-427B-84BF-BEFF3E2A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421A-A681-4199-9D0C-DE770299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4E95-FE1A-425E-87FD-C95BBB0F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9C3-4645-4305-9D91-262361AE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B31-18AD-4F77-9532-949495D7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868-6C90-4249-8826-196E03B5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91F-08DE-4DEB-989D-3E6CB7CF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5C1-1986-4C10-8C3C-E3C4861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2B8-9EE1-441E-A231-E4673B5A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F3A-A3A3-432D-B128-9288671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CBC8-C506-49B0-AE4D-84343BF226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E594-EABF-4D47-BA1A-A81C8DC7CF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Sir, We Would See Jesus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10, Lesson 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173-17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rk 15:12-3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3681-3A6E-426F-84BB-8FAE05723FC2}" type="slidenum">
              <a:t>1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Jesus Sentenced To Be Crucifie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ark 15:12-15; John 19:4-16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ate asks the crowd what they wanted him to do with Jes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say “Crucify Him, crucify Him!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ate answers “You crucify Him, for I find no fault in Him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Jews say “..He ought to die because He made Himself the Son of God.”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ate was even more afra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would not tell Pilate where he was from so he told Jesus that he had the power to release or crucify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98E-0C8D-4AA7-8330-91D18E62ECFB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Jesus Sentenced To Be Crucified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ark 15:12-15; John 19:4-16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tells Pilate that he (Pilate) has no power except it be given him from abo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om then on Pilate sought to release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Jews: “If you let this Man go, you are not Caesars frie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ate brings Jesus out and says to them, “Behold your King!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cry out, “Away with Him! Crucify Him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ate delivers Jesus, after he had scourged Him, to be crucified; The soldiers lead Him aw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18C-CA49-48E2-B54A-77B9ADE660DD}" type="slidenum">
              <a:t>3</a:t>
            </a:fld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The Crucifixion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Mk. 15:20-23; Mt. 27:31-34; Lk. 23:26-3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was too weak to carry the cross so the soldiers compelled Simon of Cyrene to carry it for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brought Him to the place Golgotha, that is, Place of a Sku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multitude followed, mourning and lamenting for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were also two criminals led with Him to be put to dea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93D-E4A0-4045-97E0-33D39933767A}" type="slidenum">
              <a:t>4</a:t>
            </a:fld>
          </a:p>
        </p:txBody>
      </p:sp>
    </p:spTree>
  </p:cSld>
  <p:transition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Jesus On The Cross</a:t>
            </a:r>
            <a:br>
              <a:rPr sz="28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k. 15:24-32; Mt. 27:35-44; Lk. 23:33-43; Jn. 19:18-27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 the soldiers Jesus said, “Father forgive them, for they do not know what they do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ing crucified with two thieves, Jesus was “numbered with the transgressors” (Isa. 53-1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oldiers mocked Jesus saying, “If You are the King of the Jews save Yourself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 inscription was placed over Him which read ‘THIS IS THE KING OF THE JEWS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chief priests and elders: “He saved others, Himself He cannot save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886-59A4-4292-A2AF-F4A940937336}" type="slidenum">
              <a:t>5</a:t>
            </a:fld>
          </a:p>
        </p:txBody>
      </p:sp>
    </p:spTree>
  </p:cSld>
  <p:transition>
    <p:cover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Jesus On The Cross</a:t>
            </a:r>
            <a:br>
              <a:rPr sz="2800"/>
            </a:b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Mk. 15:24-32; Mt. 27:35-44; Lk. 23:33-43; Jn. 19:18-27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en the two thieves, at first, reviled Jes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om the cross Jesus says to His mother, “Woman, behold your son,” meaning Joh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ter this, one of the thieves blasphemed Him, saying “If you are the Christ, save Yourself and us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other rebuked him and said to Jesus, “Lord remember me when You come into Your kingdom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replied, “Assuredly, I say to you, today you will be with Me in Paradise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800-76F6-4F38-8F07-A5424CFFB3B0}" type="slidenum">
              <a:t>6</a:t>
            </a:fld>
          </a:p>
        </p:txBody>
      </p:sp>
    </p:spTree>
  </p:cSld>
  <p:transition spd="med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03:52:10Z</dcterms:created>
  <dc:creator>billy lauderdale</dc:creator>
  <dc:description/>
  <dc:language>en-US</dc:language>
  <cp:lastModifiedBy>Frank D Vines</cp:lastModifiedBy>
  <dcterms:modified xsi:type="dcterms:W3CDTF">2006-09-05T04:25:45Z</dcterms:modified>
  <cp:revision>21</cp:revision>
  <dc:subject/>
  <dc:title>Sir, We Would See Jesus </dc:title>
</cp:coreProperties>
</file>